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013-15DF-4634-9280-A5456F50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740-9176-4E28-BBD5-19BE4C79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A74-1C3A-4265-9B3D-8F9778D4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0C1-FBB7-4904-9AE0-F8D42B6C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203F-FB3C-40E4-936B-E381581C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ABBF-A1FD-4751-8C85-F7E9DD44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16CB-3EA3-43BD-9D2C-C8C765DC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31D8-6B4E-402E-A0FB-06E38FBC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7639-6436-4B8E-9AAD-3EF36F81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4D6A-9002-49E5-A6F9-C9559A03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BEB0-8426-4AAF-BF3E-C58EEDF7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816-8BFA-4D21-9780-9C74CC8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2EC3-60A4-4D23-8A9E-EED73219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381A-2280-4C8B-9BA7-5C8C1C06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F8AA-05DB-41C7-B8D3-DDFE5105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83AE-0CA2-49FF-96DC-81E7C412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8D66-1DFB-4D84-AB20-9C3DDC61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9633-B1C1-4936-B806-52460694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24B2-9C54-485C-86B8-D9E4BDCC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F728-6A36-4021-BF67-F803CE5F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47E1-9DCD-46E2-8CDC-1B950B74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2D8B-D642-4547-85A1-B5A39CFD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1FF-09DA-4114-AC72-A42C0F35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3070-0FBB-43F4-806F-F8E96BC3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1602-757B-41D2-9C3D-4D158BD0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3A7C-33B7-4512-B061-8A6ABF44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C90D-AFAE-431D-943D-ECC64020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7265-6910-48F8-AD86-06AF0408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B4A4-C0DA-4609-9505-95BD2C26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BD0F6-795E-40D5-A3C9-E2D50779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B989-FF39-4BA3-BF2A-25FBB454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598-63E2-4134-A113-C1865FC3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135-2D30-448E-9C8B-0DF4B831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A32-0636-4A06-ACD5-5049E773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C1D7-B2EF-4520-84E2-3C2FD4C2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0FD-F670-4863-B2A4-46FEB830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2A1AF-8710-484F-B695-305E8300DE10}" type="slidenum"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42" name="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46" name="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513257-CDB8-4943-B74E-2A7E52237B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120" name="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588D9C-AF4C-406D-9EEB-193D34591A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7200" spc="-1" strike="noStrike" u="sng">
                <a:solidFill>
                  <a:srgbClr val="ffff00"/>
                </a:solidFill>
                <a:uFillTx/>
                <a:latin typeface="Arial"/>
              </a:rPr>
              <a:t>Новая Зеланд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4475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фера обслуж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4038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вается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В сфере обслуживания работ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7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03640" y="414360"/>
            <a:ext cx="4011840" cy="3009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33880" y="3749760"/>
            <a:ext cx="4182840" cy="2873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2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3848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железнодорож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путей 42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шоссей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дорог 93 3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Паромны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маршруты  Веллингтон – о.Юж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еждународные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эропорты: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кленд,   Крайстчерч, Веллингт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орской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ан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998640"/>
            <a:ext cx="3173400" cy="2570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49840" y="3665520"/>
            <a:ext cx="3203640" cy="240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085240" y="6308640"/>
            <a:ext cx="374400" cy="289080"/>
          </a:xfrm>
          <a:custGeom>
            <a:avLst/>
            <a:gdLst>
              <a:gd name="textAreaLeft" fmla="*/ 18720 w 374400"/>
              <a:gd name="textAreaRight" fmla="*/ 355680 w 3744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7967" h="21600">
                <a:moveTo>
                  <a:pt x="0" y="0"/>
                </a:moveTo>
                <a:lnTo>
                  <a:pt x="27967" y="0"/>
                </a:lnTo>
                <a:lnTo>
                  <a:pt x="27967" y="21600"/>
                </a:lnTo>
                <a:lnTo>
                  <a:pt x="0" y="21600"/>
                </a:lnTo>
                <a:close/>
              </a:path>
              <a:path fill="lightenLess" w="27967" h="21600">
                <a:moveTo>
                  <a:pt x="0" y="0"/>
                </a:moveTo>
                <a:lnTo>
                  <a:pt x="27967" y="0"/>
                </a:lnTo>
                <a:lnTo>
                  <a:pt x="26567" y="1400"/>
                </a:lnTo>
                <a:lnTo>
                  <a:pt x="1400" y="1400"/>
                </a:lnTo>
                <a:close/>
              </a:path>
              <a:path fill="darken" w="27967" h="21600">
                <a:moveTo>
                  <a:pt x="27967" y="0"/>
                </a:moveTo>
                <a:lnTo>
                  <a:pt x="27967" y="21600"/>
                </a:lnTo>
                <a:lnTo>
                  <a:pt x="26567" y="20200"/>
                </a:lnTo>
                <a:lnTo>
                  <a:pt x="26567" y="1400"/>
                </a:lnTo>
                <a:close/>
              </a:path>
              <a:path fill="darkenLess" w="27967" h="21600">
                <a:moveTo>
                  <a:pt x="27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7" y="20200"/>
                </a:lnTo>
                <a:close/>
              </a:path>
              <a:path fill="lighten" w="27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7" h="21600">
                <a:moveTo>
                  <a:pt x="6977" y="10800"/>
                </a:moveTo>
                <a:lnTo>
                  <a:pt x="20990" y="3794"/>
                </a:lnTo>
                <a:lnTo>
                  <a:pt x="2099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95760"/>
            <a:ext cx="62751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Столица – Веллингто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од расположен на северном берегу пролива Кука, в бухте Потр – Никольсон.    Площадь125 кв. км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еление 158 тыс. чел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09880" cy="30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77120" y="62064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427640" y="3500280"/>
            <a:ext cx="4392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 сентябре 1839 года группа белых переселенцев приобрела у местного племени маори участок, на котором был построен город, названный в честь фельдмаршала </a:t>
            </a: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Веллингтона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командовавшего английскими войсками в сражении при Ватерл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39160" y="6237360"/>
            <a:ext cx="349200" cy="288720"/>
          </a:xfrm>
          <a:custGeom>
            <a:avLst/>
            <a:gdLst>
              <a:gd name="textAreaLeft" fmla="*/ 18720 w 349200"/>
              <a:gd name="textAreaRight" fmla="*/ 330480 w 3492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5600" y="57848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149400"/>
            <a:ext cx="8218440" cy="27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клад в цивилизацию. 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Эрнст Резерфорд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1871 – 1937</a:t>
            </a: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7352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06800" y="2562120"/>
            <a:ext cx="5862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личайший физик – экспериментатор двадцатого столе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ентральная фигура в познании радиоактивности, заложил основы ядерной физики. Его открытия получили широкий спектр применения, включая ядерное оружие, атомные электростанции, радиоактивные исчисления, исследования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17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153280" y="6308640"/>
            <a:ext cx="379440" cy="289080"/>
          </a:xfrm>
          <a:custGeom>
            <a:avLst/>
            <a:gdLst>
              <a:gd name="textAreaLeft" fmla="*/ 18720 w 379440"/>
              <a:gd name="textAreaRight" fmla="*/ 360720 w 37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343" h="21600">
                <a:moveTo>
                  <a:pt x="0" y="0"/>
                </a:moveTo>
                <a:lnTo>
                  <a:pt x="28343" y="0"/>
                </a:lnTo>
                <a:lnTo>
                  <a:pt x="28343" y="21600"/>
                </a:lnTo>
                <a:lnTo>
                  <a:pt x="0" y="21600"/>
                </a:lnTo>
                <a:close/>
              </a:path>
              <a:path fill="lightenLess" w="28343" h="21600">
                <a:moveTo>
                  <a:pt x="0" y="0"/>
                </a:moveTo>
                <a:lnTo>
                  <a:pt x="28343" y="0"/>
                </a:lnTo>
                <a:lnTo>
                  <a:pt x="26943" y="1400"/>
                </a:lnTo>
                <a:lnTo>
                  <a:pt x="1400" y="1400"/>
                </a:lnTo>
                <a:close/>
              </a:path>
              <a:path fill="darken" w="28343" h="21600">
                <a:moveTo>
                  <a:pt x="28343" y="0"/>
                </a:moveTo>
                <a:lnTo>
                  <a:pt x="28343" y="21600"/>
                </a:lnTo>
                <a:lnTo>
                  <a:pt x="26943" y="20200"/>
                </a:lnTo>
                <a:lnTo>
                  <a:pt x="26943" y="1400"/>
                </a:lnTo>
                <a:close/>
              </a:path>
              <a:path fill="darkenLess" w="28343" h="21600">
                <a:moveTo>
                  <a:pt x="28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3" y="20200"/>
                </a:lnTo>
                <a:close/>
              </a:path>
              <a:path fill="lighten" w="28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43" h="21600">
                <a:moveTo>
                  <a:pt x="7165" y="10800"/>
                </a:moveTo>
                <a:lnTo>
                  <a:pt x="21178" y="3794"/>
                </a:lnTo>
                <a:lnTo>
                  <a:pt x="2117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6000" y="248760"/>
            <a:ext cx="87202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Культура. </a:t>
            </a:r>
            <a:br>
              <a:rPr sz="36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ражены элементы европейских, полинезийских, азиатских культурных традиций, привнесенных выходцами из многих стран мира, поселившимися здес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7960" y="2585880"/>
            <a:ext cx="2246400" cy="3219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08720" y="273204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743200" y="350352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983360" y="6308640"/>
            <a:ext cx="335160" cy="289080"/>
          </a:xfrm>
          <a:custGeom>
            <a:avLst/>
            <a:gdLst>
              <a:gd name="textAreaLeft" fmla="*/ 18720 w 335160"/>
              <a:gd name="textAreaRight" fmla="*/ 316440 w 3351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5039" h="21600">
                <a:moveTo>
                  <a:pt x="0" y="0"/>
                </a:moveTo>
                <a:lnTo>
                  <a:pt x="25039" y="0"/>
                </a:lnTo>
                <a:lnTo>
                  <a:pt x="25039" y="21600"/>
                </a:lnTo>
                <a:lnTo>
                  <a:pt x="0" y="21600"/>
                </a:lnTo>
                <a:close/>
              </a:path>
              <a:path fill="lightenLess" w="25039" h="21600">
                <a:moveTo>
                  <a:pt x="0" y="0"/>
                </a:moveTo>
                <a:lnTo>
                  <a:pt x="25039" y="0"/>
                </a:lnTo>
                <a:lnTo>
                  <a:pt x="23639" y="1400"/>
                </a:lnTo>
                <a:lnTo>
                  <a:pt x="1400" y="1400"/>
                </a:lnTo>
                <a:close/>
              </a:path>
              <a:path fill="darken" w="25039" h="21600">
                <a:moveTo>
                  <a:pt x="25039" y="0"/>
                </a:moveTo>
                <a:lnTo>
                  <a:pt x="25039" y="21600"/>
                </a:lnTo>
                <a:lnTo>
                  <a:pt x="23639" y="20200"/>
                </a:lnTo>
                <a:lnTo>
                  <a:pt x="23639" y="1400"/>
                </a:lnTo>
                <a:close/>
              </a:path>
              <a:path fill="darkenLess" w="25039" h="21600">
                <a:moveTo>
                  <a:pt x="2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9" y="20200"/>
                </a:lnTo>
                <a:close/>
              </a:path>
              <a:path fill="lighten" w="2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9" h="21600">
                <a:moveTo>
                  <a:pt x="5513" y="10800"/>
                </a:moveTo>
                <a:lnTo>
                  <a:pt x="19526" y="3794"/>
                </a:lnTo>
                <a:lnTo>
                  <a:pt x="195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98360" y="271080"/>
            <a:ext cx="5170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ровне высочайших стандартов поддерживается архитектура, симфоническая и современная музыка, театр и кин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Рассел Кроу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пулярный актер, ставший кумиром киноманов после получения «Оскара» за исполнение главной роли в фильме «Гладиатор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458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насе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рельеф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Вклад в цивилиз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248000" cy="32227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07544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757840" cy="64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Площадь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269 675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Население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3 620 000 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лотность населения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2 чел/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родолжительность жизни: 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ужчины – 75 лет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енщины – 80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Состав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европейцы – 88%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аори – 9%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ители островов Тихого океана – 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2906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00884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Форма правлен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конституционная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лава государства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королева Великобритании, представленная генерал – губернато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осударственный язык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англий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Религ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8800" y="1031760"/>
            <a:ext cx="3279600" cy="36212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Оке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упнейшие остр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верный и 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086600" y="6308640"/>
            <a:ext cx="353880" cy="289080"/>
          </a:xfrm>
          <a:custGeom>
            <a:avLst/>
            <a:gdLst>
              <a:gd name="textAreaLeft" fmla="*/ 18720 w 353880"/>
              <a:gd name="textAreaRight" fmla="*/ 335160 w 353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436" h="21600">
                <a:moveTo>
                  <a:pt x="0" y="0"/>
                </a:moveTo>
                <a:lnTo>
                  <a:pt x="26436" y="0"/>
                </a:lnTo>
                <a:lnTo>
                  <a:pt x="26436" y="21600"/>
                </a:lnTo>
                <a:lnTo>
                  <a:pt x="0" y="21600"/>
                </a:lnTo>
                <a:close/>
              </a:path>
              <a:path fill="lightenLess" w="26436" h="21600">
                <a:moveTo>
                  <a:pt x="0" y="0"/>
                </a:moveTo>
                <a:lnTo>
                  <a:pt x="26436" y="0"/>
                </a:lnTo>
                <a:lnTo>
                  <a:pt x="25036" y="1400"/>
                </a:lnTo>
                <a:lnTo>
                  <a:pt x="1400" y="1400"/>
                </a:lnTo>
                <a:close/>
              </a:path>
              <a:path fill="darken" w="26436" h="21600">
                <a:moveTo>
                  <a:pt x="26436" y="0"/>
                </a:moveTo>
                <a:lnTo>
                  <a:pt x="26436" y="21600"/>
                </a:lnTo>
                <a:lnTo>
                  <a:pt x="25036" y="20200"/>
                </a:lnTo>
                <a:lnTo>
                  <a:pt x="25036" y="1400"/>
                </a:lnTo>
                <a:close/>
              </a:path>
              <a:path fill="darkenLess" w="26436" h="21600">
                <a:moveTo>
                  <a:pt x="2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36" y="20200"/>
                </a:lnTo>
                <a:close/>
              </a:path>
              <a:path fill="lighten" w="2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36" h="21600">
                <a:moveTo>
                  <a:pt x="6211" y="10800"/>
                </a:moveTo>
                <a:lnTo>
                  <a:pt x="20224" y="3794"/>
                </a:lnTo>
                <a:lnTo>
                  <a:pt x="20224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9280" y="252108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Особенности рельеф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истые остр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ейсмическая актив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ействующие вулк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ейз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ячие минеральные источ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556000" y="60357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8870" y="3837"/>
                </a:moveTo>
                <a:lnTo>
                  <a:pt x="21446" y="6448"/>
                </a:ln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lnTo>
                  <a:pt x="25833" y="10800"/>
                </a:lnTo>
                <a:lnTo>
                  <a:pt x="24179" y="10800"/>
                </a:lnTo>
                <a:lnTo>
                  <a:pt x="24179" y="17989"/>
                </a:lnTo>
                <a:lnTo>
                  <a:pt x="13560" y="17989"/>
                </a:lnTo>
                <a:lnTo>
                  <a:pt x="13560" y="10800"/>
                </a:lnTo>
                <a:lnTo>
                  <a:pt x="11907" y="10800"/>
                </a:lnTo>
                <a:close/>
              </a:path>
              <a:path fill="darkenLess" w="37739" h="21600">
                <a:moveTo>
                  <a:pt x="21446" y="6448"/>
                </a:move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close/>
              </a:path>
              <a:path fill="darkenLess" w="37739" h="21600">
                <a:moveTo>
                  <a:pt x="17947" y="14299"/>
                </a:moveTo>
                <a:lnTo>
                  <a:pt x="19792" y="14299"/>
                </a:lnTo>
                <a:lnTo>
                  <a:pt x="19792" y="17989"/>
                </a:lnTo>
                <a:lnTo>
                  <a:pt x="24179" y="17989"/>
                </a:lnTo>
                <a:lnTo>
                  <a:pt x="24179" y="10800"/>
                </a:lnTo>
                <a:lnTo>
                  <a:pt x="13560" y="10800"/>
                </a:lnTo>
                <a:lnTo>
                  <a:pt x="13560" y="17989"/>
                </a:lnTo>
                <a:lnTo>
                  <a:pt x="17947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843280" y="6407280"/>
            <a:ext cx="360360" cy="28260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7536" h="21600">
                <a:moveTo>
                  <a:pt x="0" y="0"/>
                </a:moveTo>
                <a:lnTo>
                  <a:pt x="27536" y="0"/>
                </a:lnTo>
                <a:lnTo>
                  <a:pt x="27536" y="21600"/>
                </a:lnTo>
                <a:lnTo>
                  <a:pt x="0" y="21600"/>
                </a:lnTo>
                <a:close/>
              </a:path>
              <a:path fill="lightenLess" w="27536" h="21600">
                <a:moveTo>
                  <a:pt x="0" y="0"/>
                </a:moveTo>
                <a:lnTo>
                  <a:pt x="27536" y="0"/>
                </a:lnTo>
                <a:lnTo>
                  <a:pt x="26136" y="1400"/>
                </a:lnTo>
                <a:lnTo>
                  <a:pt x="1400" y="1400"/>
                </a:lnTo>
                <a:close/>
              </a:path>
              <a:path fill="darken" w="27536" h="21600">
                <a:moveTo>
                  <a:pt x="27536" y="0"/>
                </a:moveTo>
                <a:lnTo>
                  <a:pt x="27536" y="21600"/>
                </a:lnTo>
                <a:lnTo>
                  <a:pt x="26136" y="20200"/>
                </a:lnTo>
                <a:lnTo>
                  <a:pt x="26136" y="1400"/>
                </a:lnTo>
                <a:close/>
              </a:path>
              <a:path fill="darkenLess" w="27536" h="21600">
                <a:moveTo>
                  <a:pt x="2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36" y="20200"/>
                </a:lnTo>
                <a:close/>
              </a:path>
              <a:path fill="lighten" w="2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36" h="21600">
                <a:moveTo>
                  <a:pt x="6761" y="3794"/>
                </a:moveTo>
                <a:lnTo>
                  <a:pt x="20774" y="10800"/>
                </a:lnTo>
                <a:lnTo>
                  <a:pt x="676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2392200" y="6396120"/>
            <a:ext cx="379440" cy="282600"/>
          </a:xfrm>
          <a:custGeom>
            <a:avLst/>
            <a:gdLst>
              <a:gd name="textAreaLeft" fmla="*/ 18000 w 379440"/>
              <a:gd name="textAreaRight" fmla="*/ 361440 w 37944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8992" h="21600">
                <a:moveTo>
                  <a:pt x="0" y="0"/>
                </a:moveTo>
                <a:lnTo>
                  <a:pt x="28992" y="0"/>
                </a:lnTo>
                <a:lnTo>
                  <a:pt x="28992" y="21600"/>
                </a:lnTo>
                <a:lnTo>
                  <a:pt x="0" y="21600"/>
                </a:lnTo>
                <a:close/>
              </a:path>
              <a:path fill="lightenLess" w="28992" h="21600">
                <a:moveTo>
                  <a:pt x="0" y="0"/>
                </a:moveTo>
                <a:lnTo>
                  <a:pt x="28992" y="0"/>
                </a:lnTo>
                <a:lnTo>
                  <a:pt x="27592" y="1400"/>
                </a:lnTo>
                <a:lnTo>
                  <a:pt x="1400" y="1400"/>
                </a:lnTo>
                <a:close/>
              </a:path>
              <a:path fill="darken" w="28992" h="21600">
                <a:moveTo>
                  <a:pt x="28992" y="0"/>
                </a:moveTo>
                <a:lnTo>
                  <a:pt x="28992" y="21600"/>
                </a:lnTo>
                <a:lnTo>
                  <a:pt x="27592" y="20200"/>
                </a:lnTo>
                <a:lnTo>
                  <a:pt x="27592" y="1400"/>
                </a:lnTo>
                <a:close/>
              </a:path>
              <a:path fill="darkenLess" w="28992" h="21600">
                <a:moveTo>
                  <a:pt x="28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2" y="20200"/>
                </a:lnTo>
                <a:close/>
              </a:path>
              <a:path fill="lighten" w="28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2" h="21600">
                <a:moveTo>
                  <a:pt x="7490" y="10800"/>
                </a:moveTo>
                <a:lnTo>
                  <a:pt x="21503" y="3794"/>
                </a:lnTo>
                <a:lnTo>
                  <a:pt x="2150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Климат: субтропический морск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июля 5 – 12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января 14 – 19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садки: 400 -600 мм в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64000" cy="42339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12400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15133" y="3837"/>
                </a:moveTo>
                <a:lnTo>
                  <a:pt x="17709" y="6448"/>
                </a:ln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lnTo>
                  <a:pt x="22096" y="10800"/>
                </a:lnTo>
                <a:lnTo>
                  <a:pt x="20442" y="10800"/>
                </a:lnTo>
                <a:lnTo>
                  <a:pt x="20442" y="17989"/>
                </a:lnTo>
                <a:lnTo>
                  <a:pt x="9824" y="17989"/>
                </a:lnTo>
                <a:lnTo>
                  <a:pt x="9824" y="10800"/>
                </a:lnTo>
                <a:lnTo>
                  <a:pt x="8170" y="10800"/>
                </a:lnTo>
                <a:close/>
              </a:path>
              <a:path fill="darkenLess" w="30266" h="21600">
                <a:moveTo>
                  <a:pt x="17709" y="6448"/>
                </a:move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close/>
              </a:path>
              <a:path fill="darkenLess" w="30266" h="21600">
                <a:moveTo>
                  <a:pt x="14210" y="14299"/>
                </a:moveTo>
                <a:lnTo>
                  <a:pt x="16056" y="14299"/>
                </a:lnTo>
                <a:lnTo>
                  <a:pt x="16056" y="17989"/>
                </a:lnTo>
                <a:lnTo>
                  <a:pt x="20442" y="17989"/>
                </a:lnTo>
                <a:lnTo>
                  <a:pt x="20442" y="10800"/>
                </a:lnTo>
                <a:lnTo>
                  <a:pt x="9824" y="10800"/>
                </a:lnTo>
                <a:lnTo>
                  <a:pt x="9824" y="17989"/>
                </a:lnTo>
                <a:lnTo>
                  <a:pt x="1421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4112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908000" y="6237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305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Занято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19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удоспособного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3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В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ашиностроительные,  металлургические и текстильные предприятия сосредоточены в крупных портовых город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43520" y="233676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ельское 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576080"/>
            <a:ext cx="4622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46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сего экспорта приходится на сельскохозяйственную продукцию: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ясо, масло, сыр, шер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ты лесное хозяйство, лесозаготовки, деревообрабатывающая, целлюлозно – бумажная отрас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2320" y="1440000"/>
            <a:ext cx="361332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83400" y="3843360"/>
            <a:ext cx="2755800" cy="18032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86480" y="64674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962760" y="6467400"/>
            <a:ext cx="352440" cy="289080"/>
          </a:xfrm>
          <a:custGeom>
            <a:avLst/>
            <a:gdLst>
              <a:gd name="textAreaLeft" fmla="*/ 18720 w 352440"/>
              <a:gd name="textAreaRight" fmla="*/ 333720 w 352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328" h="21600">
                <a:moveTo>
                  <a:pt x="0" y="0"/>
                </a:moveTo>
                <a:lnTo>
                  <a:pt x="26328" y="0"/>
                </a:lnTo>
                <a:lnTo>
                  <a:pt x="26328" y="21600"/>
                </a:lnTo>
                <a:lnTo>
                  <a:pt x="0" y="21600"/>
                </a:lnTo>
                <a:close/>
              </a:path>
              <a:path fill="lightenLess" w="26328" h="21600">
                <a:moveTo>
                  <a:pt x="0" y="0"/>
                </a:moveTo>
                <a:lnTo>
                  <a:pt x="26328" y="0"/>
                </a:lnTo>
                <a:lnTo>
                  <a:pt x="24928" y="1400"/>
                </a:lnTo>
                <a:lnTo>
                  <a:pt x="1400" y="1400"/>
                </a:lnTo>
                <a:close/>
              </a:path>
              <a:path fill="darken" w="26328" h="21600">
                <a:moveTo>
                  <a:pt x="26328" y="0"/>
                </a:moveTo>
                <a:lnTo>
                  <a:pt x="26328" y="21600"/>
                </a:lnTo>
                <a:lnTo>
                  <a:pt x="24928" y="20200"/>
                </a:lnTo>
                <a:lnTo>
                  <a:pt x="24928" y="1400"/>
                </a:lnTo>
                <a:close/>
              </a:path>
              <a:path fill="darkenLess" w="26328" h="21600">
                <a:moveTo>
                  <a:pt x="2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8" y="20200"/>
                </a:lnTo>
                <a:close/>
              </a:path>
              <a:path fill="lighten" w="2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8" h="21600">
                <a:moveTo>
                  <a:pt x="6158" y="10800"/>
                </a:moveTo>
                <a:lnTo>
                  <a:pt x="20171" y="3794"/>
                </a:lnTo>
                <a:lnTo>
                  <a:pt x="2017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054920" y="60357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ова Н.В. Школа №458</dc:creator>
  <dc:description/>
  <dc:language>en-US</dc:language>
  <cp:lastModifiedBy>Галя</cp:lastModifiedBy>
  <dcterms:modified xsi:type="dcterms:W3CDTF">2010-10-07T12:21:46Z</dcterms:modified>
  <cp:revision>3</cp:revision>
  <dc:subject>География</dc:subject>
  <dc:title>Новая Зеландия</dc:title>
</cp:coreProperties>
</file>